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wmf" ContentType="image/x-wmf"/>
  <Override PartName="/ppt/media/image7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2E0-51F7-4CDB-89D7-E97B2831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6A6-F6E0-4154-A7E0-922498F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918-F544-4D0A-A6C0-FFA38985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82F-2F97-4FB3-82C7-D847A6DC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B03-20BF-40EB-BC5E-4E1B749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E93-3726-4B40-9D32-E3ABF29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AEE-B079-4E2F-A7E1-470B1E4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85-5388-4A86-B768-640B2E4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C9A-5426-4917-A3E0-16077DAF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BE6-6B18-42EC-92FA-0219562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569-1140-4A50-A578-E47DD6B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617-69D3-480A-B838-72A1DD0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C89-5B66-4C58-A44F-84E88C300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609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ush Script MT"/>
              </a:rPr>
              <a:t>Cornell Note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ush Script MT"/>
              <a:ea typeface="Brush Script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59092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A Method 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that Works!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rush Script MT"/>
              <a:ea typeface="Brush Script M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2795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ly Asked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Can I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both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of the 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Can I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penc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24080" y="19810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No.  Use only the front.  Ink bleeds through the paper and distorts your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Even though pencil can erase, it is not a good choice.  Pencil smudges and fades; it also smears when highlighted.  (Exceptions in m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.  Abbr. when poss. &amp; paraphr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228600"/>
            <a:ext cx="476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rite these on the left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14400"/>
            <a:ext cx="457200" cy="1509840"/>
          </a:xfrm>
          <a:prstGeom prst="downArrow">
            <a:avLst>
              <a:gd name="adj1" fmla="val 26389"/>
              <a:gd name="adj2" fmla="val 70833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457200" cy="1509840"/>
          </a:xfrm>
          <a:prstGeom prst="downArrow">
            <a:avLst>
              <a:gd name="adj1" fmla="val 26389"/>
              <a:gd name="adj2" fmla="val 70833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19051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2480" y="76212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ook 2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00200" y="3124080"/>
            <a:ext cx="6095880" cy="24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icago"/>
              </a:rPr>
              <a:t>Build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icago"/>
              <a:ea typeface="Chicag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icago"/>
              </a:rPr>
              <a:t>Backgrou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icago"/>
              <a:ea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53352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d23"/>
                    </a:gs>
                    <a:gs pos="50000">
                      <a:srgbClr val="a32c0b"/>
                    </a:gs>
                    <a:gs pos="100000">
                      <a:srgbClr val="ff8d23"/>
                    </a:gs>
                  </a:gsLst>
                  <a:lin ang="8100000"/>
                </a:gra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d23"/>
                  </a:gs>
                  <a:gs pos="50000">
                    <a:srgbClr val="a32c0b"/>
                  </a:gs>
                  <a:gs pos="100000">
                    <a:srgbClr val="ff8d23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-38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by most major law sch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preferred note taking method in response to frustration over student test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72200" y="2438280"/>
            <a:ext cx="31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1440" y="1905120"/>
            <a:ext cx="66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thinking ski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1440" y="3200400"/>
            <a:ext cx="681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what is said in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2160" y="4572000"/>
            <a:ext cx="67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ed notes make it eas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review material for tes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162920" y="228600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2520" y="5943600"/>
            <a:ext cx="73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is a great tool for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fffff"/>
                    </a:gs>
                    <a:gs pos="50000">
                      <a:srgbClr val="3714ff"/>
                    </a:gs>
                    <a:gs pos="100000">
                      <a:srgbClr val="1fffff"/>
                    </a:gs>
                  </a:gsLst>
                  <a:lin ang="5400000"/>
                </a:gradFill>
                <a:latin typeface="Arial"/>
              </a:rPr>
              <a:t>Still don't buy i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fffff"/>
                  </a:gs>
                  <a:gs pos="50000">
                    <a:srgbClr val="3714ff"/>
                  </a:gs>
                  <a:gs pos="100000">
                    <a:srgbClr val="1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98108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how do you k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’ve learn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il you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’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3100320"/>
            <a:ext cx="41911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143000" y="4572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39219"/>
                    </a:gs>
                    <a:gs pos="100000">
                      <a:srgbClr val="572ea3"/>
                    </a:gs>
                  </a:gsLst>
                  <a:lin ang="5400000"/>
                </a:gradFill>
                <a:latin typeface="Apple Chancery"/>
              </a:rPr>
              <a:t>Summ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39219"/>
                  </a:gs>
                  <a:gs pos="100000">
                    <a:srgbClr val="572ea3"/>
                  </a:gs>
                </a:gsLst>
                <a:lin ang="5400000"/>
              </a:gradFill>
              <a:latin typeface="Apple Chancery"/>
              <a:ea typeface="Apple Chancery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1981080"/>
            <a:ext cx="297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ttom of the page, write a brief summary of the information covered in this lesson.  Draw a horizontal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your notes from your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2057400"/>
          <a:ext cx="4952880" cy="4419720"/>
        </p:xfrm>
        <a:graphic>
          <a:graphicData uri="http://schemas.openxmlformats.org/drawingml/2006/table">
            <a:tbl>
              <a:tblPr/>
              <a:tblGrid>
                <a:gridCol w="1541520"/>
                <a:gridCol w="3411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8088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5791320"/>
            <a:ext cx="3264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arker Felt"/>
              </a:rPr>
              <a:t>Summ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5029200"/>
            <a:ext cx="3289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rizontal Lin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867280"/>
            <a:ext cx="838080" cy="486000"/>
          </a:xfrm>
          <a:prstGeom prst="leftRightArrow">
            <a:avLst>
              <a:gd name="adj1" fmla="val 50000"/>
              <a:gd name="adj2" fmla="val 34329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47920" y="91440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Book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23880" y="3200400"/>
            <a:ext cx="6096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tudent Exampl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notebook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53240" cy="6400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09680" y="3808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lecture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1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lec%202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69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990720"/>
            <a:ext cx="6324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ook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3276720"/>
            <a:ext cx="6934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adget"/>
              </a:rPr>
              <a:t>What does it look like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adget"/>
              <a:ea typeface="Gadg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ummary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195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32c0b"/>
                </a:solidFill>
                <a:latin typeface="Times New Roman"/>
              </a:rPr>
              <a:t>Set it Up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take out a piece of lined paper and fold the left edge to the center of th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take out a variety of colored pens and a highli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, write your full academy heading and the title of the notes.  In this case, Cornell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286000"/>
          <a:ext cx="3429000" cy="4278240"/>
        </p:xfrm>
        <a:graphic>
          <a:graphicData uri="http://schemas.openxmlformats.org/drawingml/2006/table">
            <a:tbl>
              <a:tblPr/>
              <a:tblGrid>
                <a:gridCol w="1066680"/>
                <a:gridCol w="23623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 rot="5400000">
            <a:off x="-1397160" y="4216320"/>
            <a:ext cx="347976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ft Ed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733920"/>
            <a:ext cx="2362320" cy="733320"/>
          </a:xfrm>
          <a:custGeom>
            <a:avLst/>
            <a:gdLst>
              <a:gd name="textAreaLeft" fmla="*/ 427680 w 2362320"/>
              <a:gd name="textAreaRight" fmla="*/ 1640880 w 23623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24" hR="21600" stAng="10800000" swAng="5400000"/>
                <a:lnTo>
                  <a:pt x="11091" y="0"/>
                </a:lnTo>
                <a:arcTo wR="7824" hR="21600" stAng="-5400000" swAng="1796095"/>
                <a:lnTo>
                  <a:pt x="20399" y="10099"/>
                </a:lnTo>
                <a:lnTo>
                  <a:pt x="17282" y="21600"/>
                </a:lnTo>
                <a:lnTo>
                  <a:pt x="11762" y="10099"/>
                </a:lnTo>
                <a:lnTo>
                  <a:pt x="14447" y="10099"/>
                </a:lnTo>
                <a:arcTo wR="7824" hR="21600" stAng="-3603905" swAng="-1530785"/>
                <a:lnTo>
                  <a:pt x="9458" y="476"/>
                </a:lnTo>
                <a:arcTo wR="7824" hR="21600" stAng="-5665310" swAng="-5134690"/>
                <a:close/>
              </a:path>
              <a:path fill="darkenLess" w="21600" h="21600">
                <a:moveTo>
                  <a:pt x="0" y="21600"/>
                </a:moveTo>
                <a:arcTo wR="7824" hR="21600" stAng="10800000" swAng="5400000"/>
                <a:lnTo>
                  <a:pt x="7824" y="0"/>
                </a:lnTo>
                <a:arcTo wR="7824" hR="21600" stAng="-5400000" swAng="265310"/>
                <a:lnTo>
                  <a:pt x="9458" y="476"/>
                </a:lnTo>
                <a:arcTo wR="7824" hR="21600" stAng="-5665310" swAng="-5134690"/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5791320"/>
            <a:ext cx="2514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ld lin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29200"/>
            <a:ext cx="814680" cy="685800"/>
          </a:xfrm>
          <a:custGeom>
            <a:avLst/>
            <a:gdLst>
              <a:gd name="textAreaLeft" fmla="*/ 0 w 814680"/>
              <a:gd name="textAreaRight" fmla="*/ 815040 w 814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579" y="2900"/>
                </a:lnTo>
                <a:lnTo>
                  <a:pt x="15579" y="0"/>
                </a:lnTo>
                <a:lnTo>
                  <a:pt x="21600" y="6079"/>
                </a:lnTo>
                <a:lnTo>
                  <a:pt x="15579" y="12158"/>
                </a:lnTo>
                <a:lnTo>
                  <a:pt x="15579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8d23"/>
              </a:gs>
              <a:gs pos="100000">
                <a:srgbClr val="e2ec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pitals"/>
              </a:rPr>
              <a:t>Learn by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rculanum"/>
              </a:rPr>
              <a:t>Lets practice taking not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26640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following question on the left side of your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86000"/>
          <a:ext cx="4952880" cy="4419720"/>
        </p:xfrm>
        <a:graphic>
          <a:graphicData uri="http://schemas.openxmlformats.org/drawingml/2006/table">
            <a:tbl>
              <a:tblPr/>
              <a:tblGrid>
                <a:gridCol w="1676520"/>
                <a:gridCol w="3276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s the difference between the left and the righ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228600"/>
            <a:ext cx="285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of the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Name/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6000" y="708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698480"/>
            <a:ext cx="2127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752480"/>
            <a:ext cx="38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114800"/>
            <a:ext cx="47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86400" y="2819520"/>
            <a:ext cx="2514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76720" y="2514600"/>
            <a:ext cx="2044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amp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1905120"/>
            <a:ext cx="2895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oncep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05320" y="4724280"/>
            <a:ext cx="269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finiti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33920" y="3657600"/>
            <a:ext cx="965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ac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400800" y="4038480"/>
            <a:ext cx="2152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5334120"/>
            <a:ext cx="254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spo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52680" y="5867280"/>
            <a:ext cx="35053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Process Sequ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 rot="5400000">
            <a:off x="437400" y="108576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8286480" y="12384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38320" y="19810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variety of contrasting colors--red, blue, black, dark green, dark pur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 not use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right gre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7c80"/>
                </a:solidFill>
                <a:latin typeface="Times New Roman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a. Highlight key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86000"/>
          <a:ext cx="4952880" cy="4419720"/>
        </p:xfrm>
        <a:graphic>
          <a:graphicData uri="http://schemas.openxmlformats.org/drawingml/2006/table">
            <a:tbl>
              <a:tblPr/>
              <a:tblGrid>
                <a:gridCol w="1541520"/>
                <a:gridCol w="3411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Red,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lue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ark green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rk pur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at Do Good Notes Look Like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144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2c0b"/>
                </a:solidFill>
                <a:latin typeface="Arial"/>
              </a:rPr>
              <a:t>What are some colors I can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8006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Why use co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0520" y="480060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The use of color helps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organize and re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your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5943600"/>
            <a:ext cx="2979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and Highlight important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38680" y="1981080"/>
            <a:ext cx="281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Always put a space between “chunks” of information.  This makes your notes easier to read and it helps break up the material in smaller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286000"/>
          <a:ext cx="4952520" cy="4278240"/>
        </p:xfrm>
        <a:graphic>
          <a:graphicData uri="http://schemas.openxmlformats.org/drawingml/2006/table">
            <a:tbl>
              <a:tblPr/>
              <a:tblGrid>
                <a:gridCol w="1540440"/>
                <a:gridCol w="3412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Red, blue, black, dark green, dark pur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ait, there's m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581280"/>
            <a:ext cx="144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2c0b"/>
                </a:solidFill>
                <a:latin typeface="Arial"/>
              </a:rPr>
              <a:t>What are some colors I can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1055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Why use co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0520" y="510552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The use of color helps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organize and re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your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724280"/>
            <a:ext cx="3429000" cy="457200"/>
          </a:xfrm>
          <a:custGeom>
            <a:avLst/>
            <a:gdLst>
              <a:gd name="textAreaLeft" fmla="*/ 0 w 3429000"/>
              <a:gd name="textAreaRight" fmla="*/ 3429360 w 3429000"/>
              <a:gd name="textAreaTop" fmla="*/ 169920 h 457200"/>
              <a:gd name="textAreaBottom" fmla="*/ 287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8025"/>
                </a:moveTo>
                <a:lnTo>
                  <a:pt x="0" y="13575"/>
                </a:lnTo>
                <a:lnTo>
                  <a:pt x="10290" y="13575"/>
                </a:lnTo>
                <a:lnTo>
                  <a:pt x="10290" y="17775"/>
                </a:lnTo>
                <a:lnTo>
                  <a:pt x="8710" y="17775"/>
                </a:lnTo>
                <a:lnTo>
                  <a:pt x="10800" y="21600"/>
                </a:lnTo>
                <a:lnTo>
                  <a:pt x="12890" y="17775"/>
                </a:lnTo>
                <a:lnTo>
                  <a:pt x="11310" y="17775"/>
                </a:lnTo>
                <a:lnTo>
                  <a:pt x="11310" y="13575"/>
                </a:lnTo>
                <a:lnTo>
                  <a:pt x="21600" y="13575"/>
                </a:lnTo>
                <a:lnTo>
                  <a:pt x="21600" y="8025"/>
                </a:lnTo>
                <a:lnTo>
                  <a:pt x="11310" y="8025"/>
                </a:lnTo>
                <a:lnTo>
                  <a:pt x="11310" y="3825"/>
                </a:lnTo>
                <a:lnTo>
                  <a:pt x="12890" y="3825"/>
                </a:lnTo>
                <a:lnTo>
                  <a:pt x="10800" y="0"/>
                </a:lnTo>
                <a:lnTo>
                  <a:pt x="8710" y="3825"/>
                </a:lnTo>
                <a:lnTo>
                  <a:pt x="10290" y="3825"/>
                </a:lnTo>
                <a:lnTo>
                  <a:pt x="10290" y="8025"/>
                </a:lnTo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38680" y="1981080"/>
            <a:ext cx="281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 Use pictures, graphs, charts, and other images to help you remember difficult information.  Pictures, like color, provide an additional stimulus when stud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286000"/>
          <a:ext cx="4952520" cy="4278240"/>
        </p:xfrm>
        <a:graphic>
          <a:graphicData uri="http://schemas.openxmlformats.org/drawingml/2006/table">
            <a:tbl>
              <a:tblPr/>
              <a:tblGrid>
                <a:gridCol w="1540440"/>
                <a:gridCol w="3412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32c0b"/>
                          </a:solidFill>
                          <a:latin typeface="Times New Roman"/>
                        </a:rPr>
                        <a:t>Does the Earth mo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Yes!  It revolves around the s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inal Tip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5812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038480"/>
            <a:ext cx="685800" cy="685800"/>
          </a:xfrm>
          <a:prstGeom prst="ellipse">
            <a:avLst/>
          </a:prstGeom>
          <a:solidFill>
            <a:srgbClr val="fff1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952880"/>
            <a:ext cx="304920" cy="304920"/>
          </a:xfrm>
          <a:prstGeom prst="ellipse">
            <a:avLst/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4:35:45Z</dcterms:created>
  <dc:creator>bullock_Paul</dc:creator>
  <dc:description/>
  <dc:language>en-US</dc:language>
  <cp:lastModifiedBy>Ebartell</cp:lastModifiedBy>
  <cp:lastPrinted>2001-10-10T19:06:35Z</cp:lastPrinted>
  <dcterms:modified xsi:type="dcterms:W3CDTF">2005-08-23T17:29:02Z</dcterms:modified>
  <cp:revision>43</cp:revision>
  <dc:subject/>
  <dc:title> </dc:title>
</cp:coreProperties>
</file>